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-360" y="-6550200"/>
            <a:ext cx="360" cy="144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38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440" y="0"/>
            <a:ext cx="1800" cy="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680" y="4680"/>
            <a:ext cx="1800" cy="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75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91A9-5F9D-4D41-92D7-27A07D9A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821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BBBD-92BE-4CE3-BA82-DB63BF2B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9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600200"/>
            <a:ext cx="4009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09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63600"/>
            <a:ext cx="4009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1EC5-41C6-4763-9AC5-13C550B0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5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320" y="1600200"/>
            <a:ext cx="2645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3440" y="1600200"/>
            <a:ext cx="2645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645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320" y="3963600"/>
            <a:ext cx="2645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3440" y="3963600"/>
            <a:ext cx="26456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C97A-001B-440E-9899-E875DDCA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7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9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C700-A904-40AD-8AD2-88480026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7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815-4762-47E0-A89F-0125ABEE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96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600200"/>
            <a:ext cx="40096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C89-CB1E-44DE-8938-6EC46A2C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C95A-9AE2-4A9E-8445-DFE75E8F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1700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9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E394-3CA6-442F-B1EE-5F4771D2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9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600200"/>
            <a:ext cx="40096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4009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D9A5-495A-4692-8D9E-118E7E1F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96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600200"/>
            <a:ext cx="4009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63600"/>
            <a:ext cx="4009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614E-A794-4BB5-8615-0552B287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09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600200"/>
            <a:ext cx="40096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8217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9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75C5-A1C2-430A-8224-7B94DF87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7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6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6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9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07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828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11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479C3A-641D-4EF0-A80D-41C9B213220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6pwllVQPVA" TargetMode="External"/><Relationship Id="rId2" Type="http://schemas.openxmlformats.org/officeDocument/2006/relationships/image" Target="../media/image5.png"/><Relationship Id="rId3" Type="http://schemas.openxmlformats.org/officeDocument/2006/relationships/hyperlink" Target="http://www.youtube.com/watch?v=R6pwlIVQPVA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L2Vd2sZyn8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tle 1" descr=""/>
          <p:cNvPicPr/>
          <p:nvPr/>
        </p:nvPicPr>
        <p:blipFill>
          <a:blip r:embed="rId1"/>
          <a:stretch/>
        </p:blipFill>
        <p:spPr>
          <a:xfrm>
            <a:off x="609480" y="1042920"/>
            <a:ext cx="821700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324480" y="228240"/>
            <a:ext cx="2362320" cy="14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ardasil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ccin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28600" y="281160"/>
            <a:ext cx="5079960" cy="4063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5343480" y="3860640"/>
            <a:ext cx="3800520" cy="2997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457200" y="5072040"/>
            <a:ext cx="416088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ervical Canc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5410080" cy="432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1104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ast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5410080" y="4419720"/>
            <a:ext cx="3478320" cy="24382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3808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idence:  1-8 women will get in their lifetime, 40,000 deaths a ye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use:  Genetics (usually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eatment:  Chemo/Radiation Therapy, Drug Treatment, Remo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ion: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reast Self Exa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Should do monthly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 week after menstrual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Font typeface="Wingdings" charset="2"/>
              <a:buChar char="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MMOGR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334120" y="457200"/>
            <a:ext cx="3589200" cy="53341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5079960" cy="40640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533520" y="4724280"/>
            <a:ext cx="3657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ticular Tor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762120" y="6019920"/>
            <a:ext cx="3352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914400" y="6172200"/>
            <a:ext cx="335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066680" y="6324480"/>
            <a:ext cx="335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666880" y="55627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scended Test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791320" y="45720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r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990720" y="380880"/>
            <a:ext cx="73152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28600"/>
            <a:ext cx="8051760" cy="5715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3505320" y="5943600"/>
            <a:ext cx="56386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guinal Hern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youtube.com/watch?v=R6pwlIVQPV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6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70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didym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3200400" cy="4584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4572000" y="1371600"/>
            <a:ext cx="330192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209520"/>
            <a:ext cx="888516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Baskerville"/>
              </a:rPr>
              <a:t>Testicular Cance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0160" y="1388880"/>
            <a:ext cx="4752720" cy="50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skerville"/>
              </a:rPr>
              <a:t>Common ages:  </a:t>
            </a:r>
            <a:r>
              <a:rPr b="0" lang="en-GB" sz="3200" spc="-1" strike="noStrike">
                <a:solidFill>
                  <a:srgbClr val="000000"/>
                </a:solidFill>
                <a:latin typeface="Baskerville"/>
              </a:rPr>
              <a:t>14-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skerville"/>
              </a:rPr>
              <a:t>Signs</a:t>
            </a:r>
            <a:r>
              <a:rPr b="0" lang="en-GB" sz="3200" spc="-1" strike="noStrike">
                <a:solidFill>
                  <a:srgbClr val="000000"/>
                </a:solidFill>
                <a:latin typeface="Baskerville"/>
              </a:rPr>
              <a:t>:  painless lump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skerville"/>
              </a:rPr>
              <a:t>abnormal swell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skerville"/>
              </a:rPr>
              <a:t>undescended testi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skerville"/>
              </a:rPr>
              <a:t>Treatment</a:t>
            </a:r>
            <a:r>
              <a:rPr b="0" lang="en-GB" sz="3200" spc="-1" strike="noStrike">
                <a:solidFill>
                  <a:srgbClr val="000000"/>
                </a:solidFill>
                <a:latin typeface="Baskerville"/>
              </a:rPr>
              <a:t>:  Surgery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skerville"/>
              </a:rPr>
              <a:t>Removal/Chemo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askerville"/>
              </a:rPr>
              <a:t>Prevention:  </a:t>
            </a:r>
            <a:r>
              <a:rPr b="0" lang="en-GB" sz="3200" spc="-1" strike="noStrike">
                <a:solidFill>
                  <a:srgbClr val="000000"/>
                </a:solidFill>
                <a:latin typeface="Baskerville"/>
              </a:rPr>
              <a:t>Month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39560"/>
                <a:tab algn="l" pos="896760"/>
                <a:tab algn="l" pos="1353960"/>
                <a:tab algn="l" pos="1811160"/>
                <a:tab algn="l" pos="2268360"/>
                <a:tab algn="l" pos="2725560"/>
                <a:tab algn="l" pos="3182760"/>
                <a:tab algn="l" pos="3639960"/>
                <a:tab algn="l" pos="4097160"/>
                <a:tab algn="l" pos="4554360"/>
                <a:tab algn="l" pos="5011560"/>
                <a:tab algn="l" pos="5468760"/>
                <a:tab algn="l" pos="5925960"/>
                <a:tab algn="l" pos="6383160"/>
                <a:tab algn="l" pos="6840360"/>
                <a:tab algn="l" pos="7297560"/>
                <a:tab algn="l" pos="7754760"/>
                <a:tab algn="l" pos="8211960"/>
                <a:tab algn="l" pos="8669160"/>
                <a:tab algn="l" pos="91263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Baskerville"/>
                <a:hlinkClick r:id="rId1"/>
              </a:rPr>
              <a:t>testicular self ex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4753080" y="1905120"/>
            <a:ext cx="4390920" cy="428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4876920" cy="4952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5486400" y="714240"/>
            <a:ext cx="3629160" cy="36291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3"/>
          <p:cNvSpPr/>
          <p:nvPr/>
        </p:nvSpPr>
        <p:spPr>
          <a:xfrm>
            <a:off x="457200" y="571176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Toxic Shock Syndrom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435560" cy="38894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1352520" y="4800600"/>
            <a:ext cx="2533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ometri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6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4521240" cy="442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-838440" y="4876920"/>
            <a:ext cx="61722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lycystic Ovaria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Content Placeholder 3" descr=""/>
          <p:cNvPicPr/>
          <p:nvPr/>
        </p:nvPicPr>
        <p:blipFill>
          <a:blip r:embed="rId1"/>
          <a:srcRect l="-22867" t="0" r="-22867" b="0"/>
          <a:stretch/>
        </p:blipFill>
        <p:spPr>
          <a:xfrm>
            <a:off x="-1295280" y="0"/>
            <a:ext cx="7334280" cy="4038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"/>
          <p:cNvPicPr/>
          <p:nvPr/>
        </p:nvPicPr>
        <p:blipFill>
          <a:blip r:embed="rId2"/>
          <a:stretch/>
        </p:blipFill>
        <p:spPr>
          <a:xfrm>
            <a:off x="4275000" y="3352680"/>
            <a:ext cx="4869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11:12:37Z</dcterms:created>
  <dc:creator/>
  <dc:description/>
  <dc:language>en-US</dc:language>
  <cp:lastModifiedBy>Teacher</cp:lastModifiedBy>
  <dcterms:modified xsi:type="dcterms:W3CDTF">2011-11-03T19:41:44Z</dcterms:modified>
  <cp:revision>21</cp:revision>
  <dc:subject/>
  <dc:title>Slide 1</dc:title>
</cp:coreProperties>
</file>